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3E0F-E7DD-4164-95BA-856B85CC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4407-BF68-4C08-8CE8-36E1F0EA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3231-DFE6-41C7-9F4D-3AC9D8AD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E82D-CE74-4DEE-8E80-9A2995CF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E80-1517-496E-8DA3-AAAEEF8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C9A0-8CAF-41D1-BDEF-D182E10D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EE6-67CE-42E4-B01A-29F213E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8D4-DAFD-4FD4-945A-BDA9358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26B5-FA41-41C1-A48B-BF8ACFFB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FA1F-019C-490B-B432-67206671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DEC5-E19E-47CD-8617-27CC1A94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3C10-E194-417A-92EC-72D0A67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05D-E6F4-4DEF-A093-2418BB2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15E0-9806-477A-A17A-22D228C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D06A-F0CF-4A39-931C-8F0CB5E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39C4-D99F-4C21-8CB0-C61FF06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2E72-DC90-4257-BC5D-BDCC9EF9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1507-A530-4B06-835A-63F0315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3B2F-C365-4875-8A2D-3D92D52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79F9-2432-4734-AA46-6775F9B8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A20A-D11E-4EF0-B4E4-4961EE0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1952-28E1-4483-B03E-DEA50CF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06B9-90D1-489B-A6B6-4B3BB83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9EEF-0736-4244-B2A1-7A15AD9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F88-6A99-4377-90CE-63763483A32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66B-E4D4-4561-9F44-14A2FF27BB9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3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0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29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ързост, братя! Ей, развя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ме Господ с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е помощ, наближ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обеда н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59800"/>
            <a:ext cx="1008216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к ни дава от простор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ъжте крепостта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твет кой ще отговор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омощта Ти - да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541440" y="1764720"/>
            <a:ext cx="1008216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 Там, врагът ни, лют и сил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напред върв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же воин млад и сил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есно той над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541440" y="1459800"/>
            <a:ext cx="1008216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к ни дава от простор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ъжте крепостта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твет кой ще отговор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омощта Ти - да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720440"/>
            <a:ext cx="95774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Надалеч се славно ве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 пряпорец;*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в строя завладе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ага във конец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541440" y="1459800"/>
            <a:ext cx="1008216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к ни дава от простор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ъжте крепостта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твет кой ще отговор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омощта Ти - да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252360" y="1689840"/>
            <a:ext cx="957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Ей, напред във бой неравен! Дайте си кураж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е знаме неумор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ждът силен наш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541440" y="1459800"/>
            <a:ext cx="1008216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к ни дава от простори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ъжте крепостта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твет кой ще отговор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омощта Ти - да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03T07:11:44Z</dcterms:modified>
  <cp:revision>141</cp:revision>
  <dc:subject/>
  <dc:title>Slide 1</dc:title>
</cp:coreProperties>
</file>